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6.pct" ContentType="image/x-pict"/>
  <Override PartName="/ppt/media/image7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6F2E-2873-463E-AD41-0B73F45EE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and 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nifest at higher levels of cou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cell can have mass; organism can have plo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ot meant to be exclusiv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’t force chlorine into the E slot, as it isn’t chlorine that is sen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guistic description not en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8B2-BDB4-4488-9397-C8323475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2918-BF5A-4BAB-B344-CD60E654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1176-7385-40E3-AA14-33B700004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65B0-7ED7-4EA9-AF16-702A714A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090-E61C-4066-8EFC-31A82A5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FA23-A60A-4460-84E5-8801564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50F-5BBA-40E2-B2B3-DC54F424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F06B-1001-4BB7-919A-265C2750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C81D-C65C-4D48-B0C3-7E92E9A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8C2-E1FA-4B2E-9DEE-14C303D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217-9458-407F-809B-C02E0D75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8BB-CCAE-491F-B6F7-64EA4C0D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A47-28BE-4CF7-9DE9-CF698A393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PATO:Pre_vs_Post_Coordinating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1337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Formal treatment of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ust be clear about what we mean when we compose an E and a Q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wise we will have incomplete query results and erroneous statistics in annot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ning must be comput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ly, an EQ description defin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1038960" y="5181480"/>
            <a:ext cx="58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69120" y="7391520"/>
            <a:ext cx="53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bearer entity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bears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708660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ich implicitly refers 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04920" y="1905120"/>
            <a:ext cx="5803920" cy="1104840"/>
            <a:chOff x="304920" y="1905120"/>
            <a:chExt cx="5803920" cy="1104840"/>
          </a:xfrm>
        </p:grpSpPr>
        <p:grpSp>
          <p:nvGrpSpPr>
            <p:cNvPr id="105" name=""/>
            <p:cNvGrpSpPr/>
            <p:nvPr/>
          </p:nvGrpSpPr>
          <p:grpSpPr>
            <a:xfrm>
              <a:off x="304920" y="1905120"/>
              <a:ext cx="5803920" cy="1104840"/>
              <a:chOff x="304920" y="1905120"/>
              <a:chExt cx="5803920" cy="110484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04920" y="1905120"/>
                <a:ext cx="5803920" cy="863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920" y="2692440"/>
                <a:ext cx="5689440" cy="317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8" name=""/>
            <p:cNvSpPr/>
            <p:nvPr/>
          </p:nvSpPr>
          <p:spPr>
            <a:xfrm>
              <a:off x="381240" y="243828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1240" y="2971800"/>
              <a:ext cx="2057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240" y="2666880"/>
              <a:ext cx="53316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720" y="266688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00200" y="2133720"/>
              <a:ext cx="91440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Kinds of entities which can be bearers of biological quali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ants (3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 part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Cells (OBO Cell ontolog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Gross anatomical entities (CARO, FMA, flyAO, MA, zfishAO, …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Aggregates of organisms (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ccurrents (4D entiti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Biological processes (GO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280" y="5105520"/>
            <a:ext cx="4329360" cy="1606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3200" y="472428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64720" y="47242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ya[1]/eya[1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4800600" y="3200400"/>
          <a:ext cx="3886200" cy="2209680"/>
        </p:xfrm>
        <a:graphic>
          <a:graphicData uri="http://schemas.openxmlformats.org/drawingml/2006/table">
            <a:tbl>
              <a:tblPr/>
              <a:tblGrid>
                <a:gridCol w="1942920"/>
                <a:gridCol w="1943280"/>
              </a:tblGrid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eath in 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creased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 disc c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fract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4876920" y="4191120"/>
            <a:ext cx="10666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4724280"/>
            <a:ext cx="3045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525780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70520" y="5867280"/>
            <a:ext cx="5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4191120"/>
            <a:ext cx="380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724280"/>
            <a:ext cx="6098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5257800"/>
            <a:ext cx="6094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28400" y="5867280"/>
            <a:ext cx="92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Gill Sans"/>
              </a:rPr>
              <a:t>FlyA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450200" y="3276720"/>
            <a:ext cx="86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ill Sans"/>
              </a:rPr>
              <a:t>P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from the top-dow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top level of PATO has been built according to formal ontological princi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helps us define terms in a consistent and unambiguous 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op level can be hidden from end-users by mean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ontology view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aka slim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subject to ch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eedback welcome!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TO: Top level divis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3640320" y="190512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6720" y="3429000"/>
            <a:ext cx="2672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continu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16240" y="3429000"/>
            <a:ext cx="3475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which inhe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n a process or spatiotempo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6324480"/>
            <a:ext cx="1067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rrest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248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63244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rem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324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layed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864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5562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410080"/>
            <a:ext cx="1600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6324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ens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952880"/>
            <a:ext cx="29718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943600"/>
            <a:ext cx="297180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48006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5943600"/>
            <a:ext cx="762120" cy="53352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04160" y="1819440"/>
            <a:ext cx="1987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some nodes omitted for bre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5410080"/>
            <a:ext cx="1218960" cy="60984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5486400"/>
            <a:ext cx="1219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5486400"/>
            <a:ext cx="1219320" cy="60948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315200" y="5562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visions by granular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"/>
          <p:cNvSpPr/>
          <p:nvPr/>
        </p:nvSpPr>
        <p:spPr>
          <a:xfrm>
            <a:off x="2661840" y="1905120"/>
            <a:ext cx="47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760" y="3429000"/>
            <a:ext cx="3298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ction of continuants at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physical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41440" y="3429000"/>
            <a:ext cx="362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ellular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that exists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the cellular level of organ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25780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otenc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5334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or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61722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8148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2578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loi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empera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5334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6324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67080" y="60199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6248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ha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64771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eupl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6019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ul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7220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totipo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oligop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63868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5638680"/>
            <a:ext cx="76176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9436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g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6172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6400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yel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5562720"/>
            <a:ext cx="762120" cy="76176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38880" y="62485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anuc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64771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bincule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924680" y="5791320"/>
            <a:ext cx="762120" cy="914400"/>
          </a:xfrm>
          <a:custGeom>
            <a:avLst/>
            <a:gdLst/>
            <a:ahLst/>
            <a:rect l="l" t="t" r="r" b="b"/>
            <a:pathLst>
              <a:path w="480" h="576">
                <a:moveTo>
                  <a:pt x="240" y="0"/>
                </a:moveTo>
                <a:lnTo>
                  <a:pt x="240" y="432"/>
                </a:lnTo>
                <a:lnTo>
                  <a:pt x="240" y="144"/>
                </a:lnTo>
                <a:lnTo>
                  <a:pt x="0" y="144"/>
                </a:lnTo>
                <a:lnTo>
                  <a:pt x="0" y="288"/>
                </a:lnTo>
                <a:lnTo>
                  <a:pt x="0" y="144"/>
                </a:lnTo>
                <a:lnTo>
                  <a:pt x="480" y="144"/>
                </a:lnTo>
                <a:lnTo>
                  <a:pt x="480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524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43200" y="609588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la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6276960"/>
            <a:ext cx="68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a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15000"/>
            <a:ext cx="53352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192" y="0"/>
                </a:moveTo>
                <a:lnTo>
                  <a:pt x="192" y="192"/>
                </a:lnTo>
                <a:lnTo>
                  <a:pt x="0" y="192"/>
                </a:lnTo>
                <a:lnTo>
                  <a:pt x="0" y="336"/>
                </a:lnTo>
                <a:lnTo>
                  <a:pt x="0" y="192"/>
                </a:lnTo>
                <a:lnTo>
                  <a:pt x="336" y="192"/>
                </a:lnTo>
                <a:lnTo>
                  <a:pt x="336" y="4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905120"/>
            <a:ext cx="4724640" cy="533160"/>
          </a:xfrm>
          <a:prstGeom prst="roundRect">
            <a:avLst>
              <a:gd name="adj" fmla="val 16667"/>
            </a:avLst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4267080" cy="6858000"/>
          </a:xfrm>
          <a:prstGeom prst="rect">
            <a:avLst/>
          </a:prstGeom>
          <a:solidFill>
            <a:srgbClr val="ffff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onadic vs relation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"/>
          <p:cNvSpPr/>
          <p:nvPr/>
        </p:nvSpPr>
        <p:spPr>
          <a:xfrm>
            <a:off x="2691720" y="190512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quality of a continu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3429000"/>
            <a:ext cx="356400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onadic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inheres solely in the bearer and does not require another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14440" y="3429000"/>
            <a:ext cx="415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Relational quality of 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 quality of a C that requires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entity apart from its bearer to ex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971800"/>
            <a:ext cx="3886200" cy="380880"/>
          </a:xfrm>
          <a:custGeom>
            <a:avLst/>
            <a:gdLst/>
            <a:ahLst/>
            <a:rect l="l" t="t" r="r" b="b"/>
            <a:pathLst>
              <a:path w="2448" h="240">
                <a:moveTo>
                  <a:pt x="0" y="240"/>
                </a:moveTo>
                <a:lnTo>
                  <a:pt x="0" y="0"/>
                </a:lnTo>
                <a:lnTo>
                  <a:pt x="2448" y="0"/>
                </a:lnTo>
                <a:lnTo>
                  <a:pt x="2448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267080" y="23619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19920" y="52578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Displac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with)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334120"/>
            <a:ext cx="1066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Physical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20120" y="5257800"/>
            <a:ext cx="1143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onnected-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525780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ensi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(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533412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Cellular qualit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410080"/>
            <a:ext cx="1295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morphology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5880" y="2971800"/>
            <a:ext cx="2590920" cy="533520"/>
          </a:xfrm>
          <a:custGeom>
            <a:avLst/>
            <a:gdLst/>
            <a:ahLst/>
            <a:rect l="l" t="t" r="r" b="b"/>
            <a:pathLst>
              <a:path w="1632" h="336">
                <a:moveTo>
                  <a:pt x="1632" y="336"/>
                </a:moveTo>
                <a:lnTo>
                  <a:pt x="16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2971800"/>
            <a:ext cx="2057400" cy="380880"/>
          </a:xfrm>
          <a:custGeom>
            <a:avLst/>
            <a:gdLst/>
            <a:ahLst/>
            <a:rect l="l" t="t" r="r" b="b"/>
            <a:pathLst>
              <a:path w="1296" h="240">
                <a:moveTo>
                  <a:pt x="0" y="240"/>
                </a:moveTo>
                <a:lnTo>
                  <a:pt x="0" y="0"/>
                </a:lnTo>
                <a:lnTo>
                  <a:pt x="1296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91680" y="350532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480" y="3429000"/>
            <a:ext cx="4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4724280"/>
            <a:ext cx="2743200" cy="60984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4572000"/>
            <a:ext cx="2971800" cy="60948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152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772400" y="4876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hap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iz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6324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Optima"/>
              </a:rPr>
              <a:t>structure   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09680" y="5867280"/>
            <a:ext cx="1676520" cy="457200"/>
          </a:xfrm>
          <a:custGeom>
            <a:avLst/>
            <a:gdLst/>
            <a:ahLst/>
            <a:rect l="l" t="t" r="r" b="b"/>
            <a:pathLst>
              <a:path w="1728" h="384">
                <a:moveTo>
                  <a:pt x="0" y="384"/>
                </a:moveTo>
                <a:lnTo>
                  <a:pt x="0" y="192"/>
                </a:lnTo>
                <a:lnTo>
                  <a:pt x="864" y="192"/>
                </a:lnTo>
                <a:lnTo>
                  <a:pt x="864" y="384"/>
                </a:lnTo>
                <a:lnTo>
                  <a:pt x="864" y="48"/>
                </a:lnTo>
                <a:lnTo>
                  <a:pt x="864" y="192"/>
                </a:lnTo>
                <a:lnTo>
                  <a:pt x="864" y="384"/>
                </a:lnTo>
                <a:lnTo>
                  <a:pt x="864" y="0"/>
                </a:lnTo>
                <a:lnTo>
                  <a:pt x="864" y="192"/>
                </a:lnTo>
                <a:lnTo>
                  <a:pt x="1728" y="192"/>
                </a:lnTo>
                <a:lnTo>
                  <a:pt x="1728" y="3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relational qu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nsitiv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ome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Gill Sans"/>
              </a:rPr>
              <a:t>Sensitiv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an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ey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 </a:t>
            </a:r>
            <a:r>
              <a:rPr b="0" lang="en-US" sz="28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e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respect to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red 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= eye Q= sensitivit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2= red_l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ab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patterns for absence, counts are currently under discuss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ermatocyte devoid of asters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= CL:spermat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heres in the spermat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Q= PATO:lacks_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relation of missing some part or par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2= GO-CC:as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is with respect to the type “aster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inciples of Composition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ur of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 vs post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Quantitative phenotyp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uring annotation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nciling pre and post composition: An analysis of the plant_trait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en do we build the phenotype description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arl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P:0000017 “big ears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227 “root length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O:0000029 “chlorine sensitivity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at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ed phenotyp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MA:ear Q= PATO:bi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 organism Q= PATO:sensitivity E2= CHEBI:chlo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this comparable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prstDash val="sys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59680" y="4191120"/>
            <a:ext cx="44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Yes: if term is decomposab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"/>
          <p:cNvSpPr/>
          <p:nvPr/>
        </p:nvSpPr>
        <p:spPr>
          <a:xfrm>
            <a:off x="787680" y="1981080"/>
            <a:ext cx="59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5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abnormal cardiac valve morpholog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7560" y="3124080"/>
            <a:ext cx="42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MP:0000287</a:t>
            </a: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 “heart valve hypoplas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819520" y="2438280"/>
            <a:ext cx="304560" cy="60984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3800" y="5562720"/>
            <a:ext cx="49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E= MA:heart_valve Q=PATO:hypoplast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4640" y="5105520"/>
            <a:ext cx="23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14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struc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21560" y="613584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645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hypoplastic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7086240" y="5486400"/>
            <a:ext cx="30492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94000" y="4267080"/>
            <a:ext cx="26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PATO:0000051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“morp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flipV="1">
            <a:off x="6477120" y="4572000"/>
            <a:ext cx="304560" cy="53352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828800" y="3962520"/>
            <a:ext cx="685800" cy="129528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87960" y="419112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-209880" y="3505320"/>
            <a:ext cx="70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hypoplastic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heart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ar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to compare and query bo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cros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pe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gross anatomical phenotypes to be compared across species, descriptions must b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compos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 anatomic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terms must be compa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: Common Anatomy Referenc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ase study: Defining plant traits with PAT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Plant Trait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agous to OBO mammalian_phenotyp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ask: Define these terms with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good test of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monstration of compositional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s meaningful comparison across plant spec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lot study before applying to metazo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"/>
          <p:cNvSpPr/>
          <p:nvPr/>
        </p:nvSpPr>
        <p:spPr>
          <a:xfrm>
            <a:off x="216720" y="6172200"/>
            <a:ext cx="8364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Optima"/>
                <a:hlinkClick r:id="rId1"/>
              </a:rPr>
              <a:t>http://www.bioontology.org/wiki/index.php/PATO:Pre_vs_Post_Coordin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reation of genus-differentia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rst pass: 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cond pass: manual edit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tologies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 anatomical entities (P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amene environment (GEO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sic phenotype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oot length” (TO:00000227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= PO:root Q= PATO:lengt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rmally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"/>
          <p:cNvSpPr/>
          <p:nvPr/>
        </p:nvSpPr>
        <p:spPr>
          <a:xfrm>
            <a:off x="829080" y="3733920"/>
            <a:ext cx="49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343400" y="4724280"/>
            <a:ext cx="450864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ypes of chemica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lorine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Q= PATO:sensitivity E2= CHEBI:chlor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"/>
          <p:cNvSpPr/>
          <p:nvPr/>
        </p:nvSpPr>
        <p:spPr>
          <a:xfrm>
            <a:off x="829080" y="4267080"/>
            <a:ext cx="72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is directed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chlo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al qualities involving the environme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rought sensitivity” [TO:0000029]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rect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owar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n additional entity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= PATO:sensitivity E2= EO:drough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"/>
          <p:cNvSpPr/>
          <p:nvPr/>
        </p:nvSpPr>
        <p:spPr>
          <a:xfrm>
            <a:off x="731880" y="3733920"/>
            <a:ext cx="68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sensitiv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5400" y="5257800"/>
            <a:ext cx="81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needs a good environment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annotation: wh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shed light o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relationship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etween genes, environment and phenoty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compar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genes and phenotypes across organis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improve human health and wellbe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lex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insura boro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"Abortion of microspore development at trinucleate stag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"/>
          <p:cNvSpPr/>
          <p:nvPr/>
        </p:nvSpPr>
        <p:spPr>
          <a:xfrm>
            <a:off x="794880" y="3733920"/>
            <a:ext cx="49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arres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microspore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during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trinucleate stag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 of plant_trait analysi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52/784 terms provided with genus-differentia definitions so fa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elped find inconsistencies and problems in the ontolog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term suggestions for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portional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pproach should work for animal phenotype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terial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erformed similar analysis on bacterial phenotyp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by Garrity &amp; Hozz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ults (morphological only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6 new terms added to PAT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gose, rhizoidal, lobate, filamentous, 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do: chemical utilization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quir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for aggregates of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ssa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 provid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l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partitions on the kinds of entities we find in natu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also want to record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quantita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nform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from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easuremen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measurement is not the ph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enotypes exist independently of our measurements of the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easurement schem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easurement record consists 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quality being measur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the length of a particular mouse 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nit 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rom PATO U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magnitu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oating point numb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ror measure [optiona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ample of PATO U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ase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ngth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gstro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alt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ra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stance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d 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centration uni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"/>
          <p:cNvSpPr/>
          <p:nvPr/>
        </p:nvSpPr>
        <p:spPr>
          <a:xfrm>
            <a:off x="4800600" y="1981080"/>
            <a:ext cx="411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p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ysical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048120"/>
            <a:ext cx="2971800" cy="3045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971800" y="3962520"/>
            <a:ext cx="2743200" cy="7596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henotype exchange forma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otypes and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al purpo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WL (using canonical EQ encoding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so has Obo equival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annotation fi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orks with pre-coordinated term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-Phenotyp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database for phenotype associ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t on OBD framewor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uned for inference and reas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ph traversal built in from the st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s on data from OMIM, ZFIN and FlyB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ly too small a dataset to do analy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t PATO &amp; Phenote used across multiple organisms and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s, BIRN, OMIM,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llect annotation data from multiple sources in one repository (OBD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th pre + post compo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monstrated improved analysis of annotation data using PA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ifficult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es can be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scriptions are ofte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compass relationships between different kinds of entities, at different levels of granular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 ways of describing the same th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must be rigorous and unambiguou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sures meaningful analyses and compariso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rganis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ilament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thin filamentous extensions at its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leomorphic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quality inhering in a cell by virtue of it ability to take on two or more different shapes during its life cyc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lvi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haped like a cushion or has a marked convex cushion-like for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mbon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knob or knoblike protuberance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ug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many wrinkles or creases on the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listening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ots of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dul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mitting or reflecting little or no ligh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viscid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vered with a sticky or clammy coating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mucoi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consistency of mucu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r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plane curve traced by a point circling about the center but at increasing distances from the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hizoidal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root like extensions radiating from its cent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spines, thorns or similar stiff projections on its surfa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arty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hard rough surface; not smooth 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url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parallel chains in undulate fashion on the bord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fragil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easily damaged or disrupted; brittl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butyraceous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resembling butter in appearance and consistency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dul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 wavy, shallow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unctiform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small and resembling a poin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lobat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morphological quality in which the bearer has deeply undulated edges forming lob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rose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having an irregularly toothed edg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raised 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is a thick colony that appear above the medium surface with terraced edg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convex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- a shape that obtains by virtue of having inward facing edges; having a surface or boundary that curves or bulges outward, as the exterior of a sp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r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mylose to amylopectin ratio”TO:000037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"/>
          <p:cNvSpPr/>
          <p:nvPr/>
        </p:nvSpPr>
        <p:spPr>
          <a:xfrm>
            <a:off x="733320" y="3733920"/>
            <a:ext cx="78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Def: 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compositionality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 directed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toward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relative_to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amylopec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[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inheres_in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organis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2182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is essential for describing phenotyp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ositionality is a principle of good ontology desig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ka building blocks, cross-products, normalised/modular desig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complex descriptions (definitions) from simpler on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scriptions can be composed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t any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construc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time 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o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-compositio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72400" y="1295280"/>
            <a:ext cx="1143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 example of compositiona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asma membrane of spermatocyt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GO CC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Sper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OBO Cell]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rmal means of composi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us-different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60199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6019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54120" y="640080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GO-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64008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OBO-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251400" y="6400800"/>
            <a:ext cx="7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60199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05720" y="601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54100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574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96520" y="46944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Ge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48320" y="541008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86728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24240" y="46944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tima"/>
              </a:rPr>
              <a:t>Different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43000" y="2590920"/>
            <a:ext cx="28954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48320" y="2590920"/>
            <a:ext cx="2286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ionality and ontology tool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ition supported by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-Edi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égé-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WOOP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 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2971800"/>
            <a:ext cx="3124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dvantage: Automatic DAG calcul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68280" y="5486400"/>
            <a:ext cx="74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plasma 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sperm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92840" y="3124080"/>
            <a:ext cx="58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Optima"/>
              </a:rPr>
              <a:t>membrane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Optima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Optima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Optima"/>
              </a:rPr>
              <a:t>germ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43828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248520" y="3962160"/>
            <a:ext cx="0" cy="1143000"/>
          </a:xfrm>
          <a:prstGeom prst="line">
            <a:avLst/>
          </a:prstGeom>
          <a:ln w="76320">
            <a:solidFill>
              <a:srgbClr val="0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297180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5334120"/>
            <a:ext cx="31244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5334120"/>
            <a:ext cx="1981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2895480"/>
            <a:ext cx="7620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181480"/>
            <a:ext cx="76197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495680" y="3962160"/>
            <a:ext cx="0" cy="1143000"/>
          </a:xfrm>
          <a:prstGeom prst="line">
            <a:avLst/>
          </a:prstGeom>
          <a:ln w="152280">
            <a:solidFill>
              <a:srgbClr val="0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building blocks of phenotype descriptions: EQ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tities and qualities (EQ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Bearer) </a:t>
            </a:r>
            <a:r>
              <a:rPr b="0" lang="en-US" sz="2400" spc="-1" strike="noStrike">
                <a:solidFill>
                  <a:srgbClr val="800000"/>
                </a:solidFill>
                <a:latin typeface="Gill Sans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800000"/>
                </a:solidFill>
                <a:latin typeface="Gill Sans"/>
              </a:rPr>
              <a:t>compound eye, spermatocyte, blood, wing growth, scale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Qualit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aka property, attrib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kind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pendent continua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d in PAT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: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green, hot, squamous, rugose, edematous, light-sensitivity, luminescent, ectopic, arrested, decompo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12-02T16:55:05Z</dcterms:modified>
  <cp:revision>471</cp:revision>
  <dc:subject/>
  <dc:title>Ontologies for biological annotation</dc:title>
</cp:coreProperties>
</file>